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gif" ContentType="image/gif"/>
  <Override PartName="/ppt/media/image8.wmf" ContentType="image/x-wmf"/>
  <Override PartName="/ppt/media/image10.gif" ContentType="image/gif"/>
  <Override PartName="/ppt/media/image6.wmf" ContentType="image/x-wmf"/>
  <Override PartName="/ppt/media/image11.wmf" ContentType="image/x-wmf"/>
  <Override PartName="/ppt/media/image7.wmf" ContentType="image/x-wmf"/>
  <Override PartName="/ppt/media/image9.jpeg" ContentType="image/jpeg"/>
  <Override PartName="/ppt/media/driveby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C7251-4C9B-4B0B-B4EA-58EA677A6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3D202-DF1E-453C-812A-930C2EAB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EDA6-AA50-4D7D-A850-D590FCD1EF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DAF7-F0EF-4036-8212-261078736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A8149-219A-4876-82A6-838D13FED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847F-8448-43E9-9F2B-56A0E209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B2C7-43C5-464E-A188-08EE329C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1B9C-A5D8-4841-A775-CDB21650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D652-5B4E-4551-B7A7-6CD736D15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02FE-4BDA-420A-A487-22EDDDE7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140F-C8FD-402D-8B9D-A16710C5D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0D75B-1BDC-47ED-A2E0-7ED36BD9C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49264-4EE9-4306-93B1-EAFA2DED4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audio" Target="../media/driveby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295280" y="1981080"/>
            <a:ext cx="6629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  <a:ea typeface="华文宋体"/>
              </a:rPr>
              <a:t> </a:t>
            </a:r>
            <a:r>
              <a:rPr b="1" lang="zh-CN" sz="6000" spc="-1" strike="noStrike">
                <a:solidFill>
                  <a:srgbClr val="ff0000"/>
                </a:solidFill>
                <a:latin typeface="Comic Sans MS"/>
                <a:ea typeface="华文宋体"/>
              </a:rPr>
              <a:t>三角形的内角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1230.org 初中数学资源网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图：在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,∠BAC=40°,∠B=75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角平分线，求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度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解：由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AC=40°,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角平分线得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D=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B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B=180°— ∠B — ∠B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 180°— 75°— 20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=85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2666880" y="2590920"/>
                <a:ext cx="228600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74" name=""/>
          <p:cNvGrpSpPr/>
          <p:nvPr/>
        </p:nvGrpSpPr>
        <p:grpSpPr>
          <a:xfrm>
            <a:off x="5562720" y="2666880"/>
            <a:ext cx="3047400" cy="1679040"/>
            <a:chOff x="5562720" y="2666880"/>
            <a:chExt cx="3047400" cy="1679040"/>
          </a:xfrm>
        </p:grpSpPr>
        <p:grpSp>
          <p:nvGrpSpPr>
            <p:cNvPr id="175" name=""/>
            <p:cNvGrpSpPr/>
            <p:nvPr/>
          </p:nvGrpSpPr>
          <p:grpSpPr>
            <a:xfrm>
              <a:off x="5867280" y="3124080"/>
              <a:ext cx="2285640" cy="914400"/>
              <a:chOff x="5867280" y="3124080"/>
              <a:chExt cx="2285640" cy="914400"/>
            </a:xfrm>
          </p:grpSpPr>
          <p:sp>
            <p:nvSpPr>
              <p:cNvPr id="176" name=""/>
              <p:cNvSpPr/>
              <p:nvPr/>
            </p:nvSpPr>
            <p:spPr>
              <a:xfrm>
                <a:off x="5867280" y="4038480"/>
                <a:ext cx="2285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7" name=""/>
              <p:cNvGrpSpPr/>
              <p:nvPr/>
            </p:nvGrpSpPr>
            <p:grpSpPr>
              <a:xfrm>
                <a:off x="5867280" y="3124080"/>
                <a:ext cx="2285280" cy="914400"/>
                <a:chOff x="5867280" y="3124080"/>
                <a:chExt cx="2285280" cy="914400"/>
              </a:xfrm>
            </p:grpSpPr>
            <p:sp>
              <p:nvSpPr>
                <p:cNvPr id="178" name=""/>
                <p:cNvSpPr/>
                <p:nvPr/>
              </p:nvSpPr>
              <p:spPr>
                <a:xfrm flipV="1">
                  <a:off x="5867280" y="3124080"/>
                  <a:ext cx="1294920" cy="914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7162200" y="3124080"/>
                  <a:ext cx="990360" cy="9144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V="1">
                  <a:off x="5867280" y="3581280"/>
                  <a:ext cx="1752120" cy="45720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1" name=""/>
            <p:cNvSpPr/>
            <p:nvPr/>
          </p:nvSpPr>
          <p:spPr>
            <a:xfrm>
              <a:off x="5562720" y="38098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619760" y="31240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933960" y="266688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153280" y="3886200"/>
              <a:ext cx="45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1230.org 初中数学资源网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2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2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2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2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2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7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80880" y="380880"/>
            <a:ext cx="8305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例题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2.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图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岛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岛的北偏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0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向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岛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岛的北偏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80 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向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岛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岛的北偏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0 °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方向。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岛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,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岛的视角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少度？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岛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岛的视角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是多少度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1905120"/>
            <a:ext cx="4419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165320" y="2590920"/>
            <a:ext cx="5997600" cy="4229280"/>
            <a:chOff x="1165320" y="2590920"/>
            <a:chExt cx="5997600" cy="4229280"/>
          </a:xfrm>
        </p:grpSpPr>
        <p:sp>
          <p:nvSpPr>
            <p:cNvPr id="188" name=""/>
            <p:cNvSpPr/>
            <p:nvPr/>
          </p:nvSpPr>
          <p:spPr>
            <a:xfrm>
              <a:off x="5197320" y="2590920"/>
              <a:ext cx="72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 flipV="1">
              <a:off x="5592600" y="3093480"/>
              <a:ext cx="38160" cy="24728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1992240" y="3597120"/>
              <a:ext cx="38160" cy="247464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43200" y="5362200"/>
              <a:ext cx="930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577880" y="6114960"/>
              <a:ext cx="217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371600" y="3195360"/>
              <a:ext cx="82692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81200" y="3093840"/>
              <a:ext cx="723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1992240" y="4515840"/>
              <a:ext cx="1860480" cy="155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686040" y="3781080"/>
              <a:ext cx="93024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581280" y="3962160"/>
              <a:ext cx="621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818320" y="5511600"/>
              <a:ext cx="72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1992240" y="5511240"/>
              <a:ext cx="3619440" cy="603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852720" y="4503600"/>
              <a:ext cx="1758960" cy="100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430240" y="4767120"/>
              <a:ext cx="37116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992240" y="6114960"/>
              <a:ext cx="4653000" cy="0"/>
            </a:xfrm>
            <a:prstGeom prst="line">
              <a:avLst/>
            </a:prstGeom>
            <a:ln w="28440">
              <a:solidFill>
                <a:srgbClr val="ff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335640" y="6216480"/>
              <a:ext cx="827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东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579680" y="5511600"/>
              <a:ext cx="825120" cy="4021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165320" y="5208480"/>
              <a:ext cx="1653840" cy="1611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5094360" y="4906800"/>
              <a:ext cx="1033920" cy="602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15000" y="2993760"/>
              <a:ext cx="517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038480" y="2742840"/>
              <a:ext cx="106704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1230.org 初中数学资源网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-360" y="60948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解：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AB= ∠BAD - ∠CAD =80°-50°= 3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D∥B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得： 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AD +∠BADE=18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∴ 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E=180°- ∠BAD = 180°- 80°=10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=∠ABE-∠EBC= 100°- 40°=6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 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B= 180°- ∠ABC -∠C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180°- 60°- 30°= 9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答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岛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,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岛的视角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岛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两岛的视角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76920" y="4724280"/>
            <a:ext cx="2895480" cy="1371600"/>
          </a:xfrm>
          <a:prstGeom prst="cloudCallout">
            <a:avLst>
              <a:gd name="adj1" fmla="val -126481"/>
              <a:gd name="adj2" fmla="val 2083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你还能想出其他办法吗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752480" y="4800600"/>
            <a:ext cx="1067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Times New Roman"/>
              </a:rPr>
              <a:t>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1230.org 初中数学资源网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3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30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1" dur="200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6" dur="200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1" dur="50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04" dur="500"/>
                                        <p:tgtEl>
                                          <p:spTgt spid="2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2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2000" fill="hold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2000"/>
                                        <p:tgtEl>
                                          <p:spTgt spid="2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0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1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2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mph" presetID="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Rot by="21600000">
                                      <p:cBhvr>
                                        <p:cTn id="332" dur="20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447920" y="228600"/>
            <a:ext cx="6478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如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某同学把一块三角形的玻璃打碎成三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现在他要到玻璃店去配一块形状完全一      样的玻璃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那么最省事的办法是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 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5638680"/>
            <a:ext cx="3429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4419720" cy="23097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685800" y="449568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带①去　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带②去　　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带③去　　　　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D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带①和②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81480" y="175248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 rot="5400000">
            <a:off x="28440" y="581040"/>
            <a:ext cx="1390680" cy="838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隶书"/>
              </a:rPr>
              <a:t>练习</a:t>
            </a:r>
            <a:endParaRPr b="1" lang="en-US" sz="1800" spc="-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1230.org 初中数学资源网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838080" y="1143000"/>
            <a:ext cx="7086600" cy="2525760"/>
            <a:chOff x="838080" y="1143000"/>
            <a:chExt cx="7086600" cy="2525760"/>
          </a:xfrm>
        </p:grpSpPr>
        <p:sp>
          <p:nvSpPr>
            <p:cNvPr id="219" name=""/>
            <p:cNvSpPr/>
            <p:nvPr/>
          </p:nvSpPr>
          <p:spPr>
            <a:xfrm>
              <a:off x="838080" y="1143000"/>
              <a:ext cx="7086600" cy="25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、在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ＡＢＣ</a:t>
              </a: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</a:rPr>
                <a:t>中，如果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方正舒体"/>
                </a:rPr>
                <a:t>∠</a:t>
              </a:r>
              <a:r>
                <a:rPr b="1" lang="zh-CN" sz="4000" spc="-1" strike="noStrike">
                  <a:solidFill>
                    <a:srgbClr val="000000"/>
                  </a:solidFill>
                  <a:latin typeface="方正舒体"/>
                </a:rPr>
                <a:t>Ａ </a:t>
              </a:r>
              <a:r>
                <a:rPr b="1" lang="en-US" sz="4000" spc="-1" strike="noStrike">
                  <a:solidFill>
                    <a:srgbClr val="000000"/>
                  </a:solidFill>
                  <a:latin typeface="方正舒体"/>
                </a:rPr>
                <a:t>=   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∠B=       ∠ C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</a:rPr>
                <a:t>那么</a:t>
              </a:r>
              <a:r>
                <a:rPr b="1" lang="en-US" sz="4000" spc="-1" strike="noStrike">
                  <a:solidFill>
                    <a:srgbClr val="000000"/>
                  </a:solidFill>
                  <a:latin typeface="方正舒体"/>
                  <a:ea typeface="Times New Roman"/>
                </a:rPr>
                <a:t>△</a:t>
              </a:r>
              <a:r>
                <a:rPr b="1" lang="zh-CN" sz="4000" spc="-1" strike="noStrike">
                  <a:solidFill>
                    <a:srgbClr val="000000"/>
                  </a:solidFill>
                  <a:latin typeface="方正舒体"/>
                </a:rPr>
                <a:t>ＡＢＣ是什么三角形？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20" name=""/>
            <p:cNvGraphicFramePr/>
            <p:nvPr/>
          </p:nvGraphicFramePr>
          <p:xfrm>
            <a:off x="2514600" y="1676520"/>
            <a:ext cx="547560" cy="13395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21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514600" y="1676520"/>
                      <a:ext cx="547560" cy="1339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222" name="" descr=""/>
            <p:cNvPicPr/>
            <p:nvPr/>
          </p:nvPicPr>
          <p:blipFill>
            <a:blip r:embed="rId3"/>
            <a:stretch/>
          </p:blipFill>
          <p:spPr>
            <a:xfrm>
              <a:off x="4343400" y="1752480"/>
              <a:ext cx="449280" cy="1263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1230.org 初中数学资源网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67700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4419720" y="0"/>
            <a:ext cx="4162320" cy="30592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1219320" y="3581280"/>
            <a:ext cx="7010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  <a:ea typeface="黑体"/>
              </a:rPr>
              <a:t>这节课你有那些收获</a:t>
            </a:r>
            <a:r>
              <a:rPr b="1" lang="en-US" sz="5400" spc="-1" strike="noStrike">
                <a:solidFill>
                  <a:srgbClr val="ff3300"/>
                </a:solidFill>
                <a:latin typeface="Arial"/>
                <a:ea typeface="黑体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1230.org 初中数学资源网 </a:t>
            </a:r>
          </a:p>
        </p:txBody>
      </p:sp>
    </p:spTree>
  </p:cSld>
  <p:transition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33520" y="3809880"/>
            <a:ext cx="1336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方正魏碑简体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3640" y="4777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229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18360" y="380880"/>
              <a:ext cx="1826280" cy="48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新魏"/>
                </a:rPr>
                <a:t>凭勤奋出成果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14240" y="380880"/>
              <a:ext cx="1826280" cy="487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5400" spc="-1" strike="noStrike">
                  <a:solidFill>
                    <a:srgbClr val="ffff00"/>
                  </a:solidFill>
                  <a:latin typeface="华文新魏"/>
                </a:rPr>
                <a:t>向效率要质量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1230.org 初中数学资源网 </a:t>
            </a:r>
          </a:p>
        </p:txBody>
      </p:sp>
    </p:spTree>
  </p:cSld>
  <p:transition advTm="2000">
    <p:push dir="l"/>
    <p:sndAc>
      <p:stSnd>
        <p:snd r:embed="rId2" name="driveby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990720" y="304920"/>
          <a:ext cx="3744720" cy="171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04920"/>
                    <a:ext cx="3744720" cy="17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533520" y="2286000"/>
            <a:ext cx="8229600" cy="19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方正舒体"/>
                <a:ea typeface="方正舒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在一个直角三角形里住着三个内角，平时，它们三兄弟非常团结。可是有一天，老二突然不高兴，发起脾气来，它指着老大说：“你凭什么度数最大，我也要和你一样大！”“不行啊！”老大说：“这是不可能的，否则，我们这个家就再也围不起来了……”“为什么？” 老二很纳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000" spc="-1" strike="noStrike">
                <a:solidFill>
                  <a:srgbClr val="ff3300"/>
                </a:solidFill>
                <a:latin typeface="宋体"/>
              </a:rPr>
              <a:t>同学们，你们知道其中的道理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1371600" y="304920"/>
          <a:ext cx="2557440" cy="167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371600" y="304920"/>
                    <a:ext cx="2557440" cy="16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" name=""/>
          <p:cNvSpPr/>
          <p:nvPr/>
        </p:nvSpPr>
        <p:spPr>
          <a:xfrm>
            <a:off x="4724280" y="838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724280" y="914400"/>
            <a:ext cx="441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9900cc"/>
                </a:solidFill>
                <a:latin typeface="Times New Roman"/>
                <a:ea typeface="方正舒体"/>
              </a:rPr>
              <a:t>内角三兄弟之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1230.org 初中数学资源网 </a:t>
            </a: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-23040" y="-11520"/>
            <a:ext cx="1168920" cy="2239560"/>
            <a:chOff x="-23040" y="-11520"/>
            <a:chExt cx="1168920" cy="2239560"/>
          </a:xfrm>
        </p:grpSpPr>
        <p:sp>
          <p:nvSpPr>
            <p:cNvPr id="51" name=""/>
            <p:cNvSpPr/>
            <p:nvPr/>
          </p:nvSpPr>
          <p:spPr>
            <a:xfrm rot="5472600">
              <a:off x="-546480" y="546840"/>
              <a:ext cx="2216160" cy="1122480"/>
            </a:xfrm>
            <a:prstGeom prst="horizontalScroll">
              <a:avLst>
                <a:gd name="adj" fmla="val 12500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rot="21525000">
              <a:off x="304920" y="229680"/>
              <a:ext cx="60948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ff"/>
                  </a:solidFill>
                  <a:latin typeface="Times New Roman"/>
                </a:rPr>
                <a:t>想一想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66680" y="38088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宋体"/>
              </a:rPr>
              <a:t>三角形的三个内角和是多少</a:t>
            </a:r>
            <a:r>
              <a:rPr b="1" lang="en-US" sz="4000" spc="-1" strike="noStrike">
                <a:solidFill>
                  <a:srgbClr val="cc0000"/>
                </a:solidFill>
                <a:latin typeface="宋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1981080"/>
            <a:ext cx="6933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cc"/>
                </a:solidFill>
                <a:latin typeface="Arial"/>
              </a:rPr>
              <a:t>把三个角拼在一起试试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990720" y="1143000"/>
            <a:ext cx="7238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</a:rPr>
              <a:t>你有什么办法可以验证呢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方正舒体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533520" y="2895480"/>
            <a:ext cx="2971800" cy="1714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772400" y="0"/>
            <a:ext cx="1371600" cy="1447920"/>
          </a:xfrm>
          <a:prstGeom prst="rect">
            <a:avLst/>
          </a:prstGeom>
          <a:ln w="0">
            <a:noFill/>
          </a:ln>
        </p:spPr>
      </p:pic>
      <p:sp>
        <p:nvSpPr>
          <p:cNvPr id="58" name="未知"/>
          <p:cNvSpPr/>
          <p:nvPr/>
        </p:nvSpPr>
        <p:spPr>
          <a:xfrm rot="10835400">
            <a:off x="615600" y="4773240"/>
            <a:ext cx="1251000" cy="833400"/>
          </a:xfrm>
          <a:custGeom>
            <a:avLst/>
            <a:gdLst/>
            <a:ahLst/>
            <a:rect l="l" t="t" r="r" b="b"/>
            <a:pathLst>
              <a:path w="4724" h="3148">
                <a:moveTo>
                  <a:pt x="2309" y="663"/>
                </a:moveTo>
                <a:lnTo>
                  <a:pt x="1758" y="0"/>
                </a:lnTo>
                <a:lnTo>
                  <a:pt x="0" y="3148"/>
                </a:lnTo>
                <a:lnTo>
                  <a:pt x="4542" y="3148"/>
                </a:lnTo>
                <a:lnTo>
                  <a:pt x="4322" y="2457"/>
                </a:lnTo>
                <a:lnTo>
                  <a:pt x="4724" y="1982"/>
                </a:lnTo>
                <a:lnTo>
                  <a:pt x="4248" y="1579"/>
                </a:lnTo>
                <a:lnTo>
                  <a:pt x="4651" y="736"/>
                </a:lnTo>
                <a:lnTo>
                  <a:pt x="4102" y="371"/>
                </a:lnTo>
                <a:lnTo>
                  <a:pt x="3699" y="773"/>
                </a:lnTo>
                <a:lnTo>
                  <a:pt x="2821" y="297"/>
                </a:lnTo>
                <a:lnTo>
                  <a:pt x="2309" y="663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未知"/>
          <p:cNvSpPr/>
          <p:nvPr/>
        </p:nvSpPr>
        <p:spPr>
          <a:xfrm rot="10819200">
            <a:off x="1842840" y="4779720"/>
            <a:ext cx="1800000" cy="833400"/>
          </a:xfrm>
          <a:custGeom>
            <a:avLst/>
            <a:gdLst/>
            <a:ahLst/>
            <a:rect l="l" t="t" r="r" b="b"/>
            <a:pathLst>
              <a:path w="6802" h="3149">
                <a:moveTo>
                  <a:pt x="2252" y="481"/>
                </a:moveTo>
                <a:lnTo>
                  <a:pt x="1977" y="225"/>
                </a:lnTo>
                <a:lnTo>
                  <a:pt x="1538" y="664"/>
                </a:lnTo>
                <a:lnTo>
                  <a:pt x="989" y="298"/>
                </a:lnTo>
                <a:lnTo>
                  <a:pt x="403" y="737"/>
                </a:lnTo>
                <a:lnTo>
                  <a:pt x="0" y="1580"/>
                </a:lnTo>
                <a:lnTo>
                  <a:pt x="476" y="1983"/>
                </a:lnTo>
                <a:lnTo>
                  <a:pt x="74" y="2458"/>
                </a:lnTo>
                <a:lnTo>
                  <a:pt x="294" y="3149"/>
                </a:lnTo>
                <a:lnTo>
                  <a:pt x="6802" y="3149"/>
                </a:lnTo>
                <a:lnTo>
                  <a:pt x="3033" y="0"/>
                </a:lnTo>
                <a:lnTo>
                  <a:pt x="2252" y="481"/>
                </a:lnTo>
                <a:close/>
              </a:path>
            </a:pathLst>
          </a:custGeom>
          <a:solidFill>
            <a:srgbClr val="ff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914400" y="4800600"/>
            <a:ext cx="2924280" cy="1677960"/>
            <a:chOff x="914400" y="4800600"/>
            <a:chExt cx="2924280" cy="1677960"/>
          </a:xfrm>
        </p:grpSpPr>
        <p:grpSp>
          <p:nvGrpSpPr>
            <p:cNvPr id="61" name=""/>
            <p:cNvGrpSpPr/>
            <p:nvPr/>
          </p:nvGrpSpPr>
          <p:grpSpPr>
            <a:xfrm>
              <a:off x="914400" y="4800600"/>
              <a:ext cx="2908440" cy="1677960"/>
              <a:chOff x="914400" y="4800600"/>
              <a:chExt cx="2908440" cy="1677960"/>
            </a:xfrm>
          </p:grpSpPr>
          <p:sp>
            <p:nvSpPr>
              <p:cNvPr id="62" name="未知"/>
              <p:cNvSpPr/>
              <p:nvPr/>
            </p:nvSpPr>
            <p:spPr>
              <a:xfrm>
                <a:off x="1378080" y="4800600"/>
                <a:ext cx="1461960" cy="1038240"/>
              </a:xfrm>
              <a:custGeom>
                <a:avLst/>
                <a:gdLst/>
                <a:ahLst/>
                <a:rect l="l" t="t" r="r" b="b"/>
                <a:pathLst>
                  <a:path w="5523" h="3922">
                    <a:moveTo>
                      <a:pt x="0" y="3149"/>
                    </a:moveTo>
                    <a:lnTo>
                      <a:pt x="551" y="3812"/>
                    </a:lnTo>
                    <a:lnTo>
                      <a:pt x="1063" y="3446"/>
                    </a:lnTo>
                    <a:lnTo>
                      <a:pt x="1941" y="3922"/>
                    </a:lnTo>
                    <a:lnTo>
                      <a:pt x="2344" y="3520"/>
                    </a:lnTo>
                    <a:lnTo>
                      <a:pt x="2893" y="3885"/>
                    </a:lnTo>
                    <a:lnTo>
                      <a:pt x="3479" y="3446"/>
                    </a:lnTo>
                    <a:lnTo>
                      <a:pt x="4028" y="3812"/>
                    </a:lnTo>
                    <a:lnTo>
                      <a:pt x="4467" y="3373"/>
                    </a:lnTo>
                    <a:lnTo>
                      <a:pt x="4742" y="3629"/>
                    </a:lnTo>
                    <a:lnTo>
                      <a:pt x="5523" y="3148"/>
                    </a:lnTo>
                    <a:lnTo>
                      <a:pt x="1755" y="0"/>
                    </a:lnTo>
                    <a:lnTo>
                      <a:pt x="0" y="3149"/>
                    </a:lnTo>
                    <a:close/>
                  </a:path>
                </a:pathLst>
              </a:custGeom>
              <a:solidFill>
                <a:srgbClr val="00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未知"/>
              <p:cNvSpPr/>
              <p:nvPr/>
            </p:nvSpPr>
            <p:spPr>
              <a:xfrm>
                <a:off x="914400" y="5645160"/>
                <a:ext cx="1251000" cy="833400"/>
              </a:xfrm>
              <a:custGeom>
                <a:avLst/>
                <a:gdLst/>
                <a:ahLst/>
                <a:rect l="l" t="t" r="r" b="b"/>
                <a:pathLst>
                  <a:path w="4724" h="3148">
                    <a:moveTo>
                      <a:pt x="2309" y="663"/>
                    </a:moveTo>
                    <a:lnTo>
                      <a:pt x="1758" y="0"/>
                    </a:lnTo>
                    <a:lnTo>
                      <a:pt x="0" y="3148"/>
                    </a:lnTo>
                    <a:lnTo>
                      <a:pt x="4542" y="3148"/>
                    </a:lnTo>
                    <a:lnTo>
                      <a:pt x="4322" y="2457"/>
                    </a:lnTo>
                    <a:lnTo>
                      <a:pt x="4724" y="1982"/>
                    </a:lnTo>
                    <a:lnTo>
                      <a:pt x="4248" y="1579"/>
                    </a:lnTo>
                    <a:lnTo>
                      <a:pt x="4651" y="736"/>
                    </a:lnTo>
                    <a:lnTo>
                      <a:pt x="4102" y="371"/>
                    </a:lnTo>
                    <a:lnTo>
                      <a:pt x="3699" y="773"/>
                    </a:lnTo>
                    <a:lnTo>
                      <a:pt x="2821" y="297"/>
                    </a:lnTo>
                    <a:lnTo>
                      <a:pt x="2309" y="663"/>
                    </a:lnTo>
                    <a:close/>
                  </a:path>
                </a:pathLst>
              </a:custGeom>
              <a:solidFill>
                <a:srgbClr val="ccff66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未知"/>
              <p:cNvSpPr/>
              <p:nvPr/>
            </p:nvSpPr>
            <p:spPr>
              <a:xfrm>
                <a:off x="2022480" y="5645160"/>
                <a:ext cx="1800360" cy="833400"/>
              </a:xfrm>
              <a:custGeom>
                <a:avLst/>
                <a:gdLst/>
                <a:ahLst/>
                <a:rect l="l" t="t" r="r" b="b"/>
                <a:pathLst>
                  <a:path w="6802" h="3149">
                    <a:moveTo>
                      <a:pt x="2252" y="481"/>
                    </a:moveTo>
                    <a:lnTo>
                      <a:pt x="1977" y="225"/>
                    </a:lnTo>
                    <a:lnTo>
                      <a:pt x="1538" y="664"/>
                    </a:lnTo>
                    <a:lnTo>
                      <a:pt x="989" y="298"/>
                    </a:lnTo>
                    <a:lnTo>
                      <a:pt x="403" y="737"/>
                    </a:lnTo>
                    <a:lnTo>
                      <a:pt x="0" y="1580"/>
                    </a:lnTo>
                    <a:lnTo>
                      <a:pt x="476" y="1983"/>
                    </a:lnTo>
                    <a:lnTo>
                      <a:pt x="74" y="2458"/>
                    </a:lnTo>
                    <a:lnTo>
                      <a:pt x="294" y="3149"/>
                    </a:lnTo>
                    <a:lnTo>
                      <a:pt x="6802" y="3149"/>
                    </a:lnTo>
                    <a:lnTo>
                      <a:pt x="3033" y="0"/>
                    </a:lnTo>
                    <a:lnTo>
                      <a:pt x="2252" y="481"/>
                    </a:lnTo>
                    <a:close/>
                  </a:path>
                </a:pathLst>
              </a:custGeom>
              <a:solidFill>
                <a:srgbClr val="ff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914400" y="4800600"/>
              <a:ext cx="2924280" cy="1666800"/>
              <a:chOff x="914400" y="4800600"/>
              <a:chExt cx="2924280" cy="1666800"/>
            </a:xfrm>
          </p:grpSpPr>
          <p:sp>
            <p:nvSpPr>
              <p:cNvPr id="66" name="未知"/>
              <p:cNvSpPr/>
              <p:nvPr/>
            </p:nvSpPr>
            <p:spPr>
              <a:xfrm>
                <a:off x="914400" y="5634000"/>
                <a:ext cx="1201680" cy="833400"/>
              </a:xfrm>
              <a:custGeom>
                <a:avLst/>
                <a:gdLst/>
                <a:ahLst/>
                <a:rect l="l" t="t" r="r" b="b"/>
                <a:pathLst>
                  <a:path w="4542" h="3148">
                    <a:moveTo>
                      <a:pt x="4542" y="3148"/>
                    </a:moveTo>
                    <a:lnTo>
                      <a:pt x="0" y="3148"/>
                    </a:lnTo>
                    <a:lnTo>
                      <a:pt x="175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未知"/>
              <p:cNvSpPr/>
              <p:nvPr/>
            </p:nvSpPr>
            <p:spPr>
              <a:xfrm>
                <a:off x="2109960" y="5614920"/>
                <a:ext cx="696600" cy="195480"/>
              </a:xfrm>
              <a:custGeom>
                <a:avLst/>
                <a:gdLst/>
                <a:ahLst/>
                <a:rect l="l" t="t" r="r" b="b"/>
                <a:pathLst>
                  <a:path w="2630" h="737">
                    <a:moveTo>
                      <a:pt x="0" y="737"/>
                    </a:moveTo>
                    <a:lnTo>
                      <a:pt x="586" y="298"/>
                    </a:lnTo>
                    <a:lnTo>
                      <a:pt x="1135" y="664"/>
                    </a:lnTo>
                    <a:lnTo>
                      <a:pt x="1574" y="225"/>
                    </a:lnTo>
                    <a:lnTo>
                      <a:pt x="1849" y="481"/>
                    </a:lnTo>
                    <a:lnTo>
                      <a:pt x="263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未知"/>
              <p:cNvSpPr/>
              <p:nvPr/>
            </p:nvSpPr>
            <p:spPr>
              <a:xfrm>
                <a:off x="2038320" y="5829480"/>
                <a:ext cx="127080" cy="637920"/>
              </a:xfrm>
              <a:custGeom>
                <a:avLst/>
                <a:gdLst/>
                <a:ahLst/>
                <a:rect l="l" t="t" r="r" b="b"/>
                <a:pathLst>
                  <a:path w="476" h="2412">
                    <a:moveTo>
                      <a:pt x="403" y="0"/>
                    </a:moveTo>
                    <a:lnTo>
                      <a:pt x="0" y="843"/>
                    </a:lnTo>
                    <a:lnTo>
                      <a:pt x="476" y="1246"/>
                    </a:lnTo>
                    <a:lnTo>
                      <a:pt x="74" y="1721"/>
                    </a:lnTo>
                    <a:lnTo>
                      <a:pt x="294" y="24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未知"/>
              <p:cNvSpPr/>
              <p:nvPr/>
            </p:nvSpPr>
            <p:spPr>
              <a:xfrm>
                <a:off x="1379520" y="4800600"/>
                <a:ext cx="1461960" cy="833400"/>
              </a:xfrm>
              <a:custGeom>
                <a:avLst/>
                <a:gdLst/>
                <a:ahLst/>
                <a:rect l="l" t="t" r="r" b="b"/>
                <a:pathLst>
                  <a:path w="5523" h="3149">
                    <a:moveTo>
                      <a:pt x="5523" y="3148"/>
                    </a:moveTo>
                    <a:lnTo>
                      <a:pt x="1755" y="0"/>
                    </a:lnTo>
                    <a:lnTo>
                      <a:pt x="0" y="314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未知"/>
              <p:cNvSpPr/>
              <p:nvPr/>
            </p:nvSpPr>
            <p:spPr>
              <a:xfrm>
                <a:off x="2116080" y="5634000"/>
                <a:ext cx="1722600" cy="833400"/>
              </a:xfrm>
              <a:custGeom>
                <a:avLst/>
                <a:gdLst/>
                <a:ahLst/>
                <a:rect l="l" t="t" r="r" b="b"/>
                <a:pathLst>
                  <a:path w="6508" h="3149">
                    <a:moveTo>
                      <a:pt x="0" y="3149"/>
                    </a:moveTo>
                    <a:lnTo>
                      <a:pt x="6508" y="3149"/>
                    </a:lnTo>
                    <a:lnTo>
                      <a:pt x="2739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未知"/>
              <p:cNvSpPr/>
              <p:nvPr/>
            </p:nvSpPr>
            <p:spPr>
              <a:xfrm>
                <a:off x="1379520" y="5634000"/>
                <a:ext cx="765360" cy="204840"/>
              </a:xfrm>
              <a:custGeom>
                <a:avLst/>
                <a:gdLst/>
                <a:ahLst/>
                <a:rect l="l" t="t" r="r" b="b"/>
                <a:pathLst>
                  <a:path w="2893" h="773">
                    <a:moveTo>
                      <a:pt x="0" y="0"/>
                    </a:moveTo>
                    <a:lnTo>
                      <a:pt x="551" y="663"/>
                    </a:lnTo>
                    <a:lnTo>
                      <a:pt x="1063" y="297"/>
                    </a:lnTo>
                    <a:lnTo>
                      <a:pt x="1941" y="773"/>
                    </a:lnTo>
                    <a:lnTo>
                      <a:pt x="2344" y="371"/>
                    </a:lnTo>
                    <a:lnTo>
                      <a:pt x="2893" y="7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4114800" y="2971800"/>
            <a:ext cx="2943360" cy="1671480"/>
            <a:chOff x="4114800" y="2971800"/>
            <a:chExt cx="2943360" cy="1671480"/>
          </a:xfrm>
        </p:grpSpPr>
        <p:sp>
          <p:nvSpPr>
            <p:cNvPr id="73" name="未知"/>
            <p:cNvSpPr/>
            <p:nvPr/>
          </p:nvSpPr>
          <p:spPr>
            <a:xfrm>
              <a:off x="4114800" y="3809880"/>
              <a:ext cx="1251000" cy="833400"/>
            </a:xfrm>
            <a:custGeom>
              <a:avLst/>
              <a:gdLst/>
              <a:ahLst/>
              <a:rect l="l" t="t" r="r" b="b"/>
              <a:pathLst>
                <a:path w="4724" h="3148">
                  <a:moveTo>
                    <a:pt x="2309" y="663"/>
                  </a:moveTo>
                  <a:lnTo>
                    <a:pt x="1758" y="0"/>
                  </a:lnTo>
                  <a:lnTo>
                    <a:pt x="0" y="3148"/>
                  </a:lnTo>
                  <a:lnTo>
                    <a:pt x="4542" y="3148"/>
                  </a:lnTo>
                  <a:lnTo>
                    <a:pt x="4322" y="2457"/>
                  </a:lnTo>
                  <a:lnTo>
                    <a:pt x="4724" y="1982"/>
                  </a:lnTo>
                  <a:lnTo>
                    <a:pt x="4248" y="1579"/>
                  </a:lnTo>
                  <a:lnTo>
                    <a:pt x="4651" y="736"/>
                  </a:lnTo>
                  <a:lnTo>
                    <a:pt x="4102" y="371"/>
                  </a:lnTo>
                  <a:lnTo>
                    <a:pt x="3699" y="773"/>
                  </a:lnTo>
                  <a:lnTo>
                    <a:pt x="2821" y="297"/>
                  </a:lnTo>
                  <a:lnTo>
                    <a:pt x="2309" y="663"/>
                  </a:lnTo>
                  <a:close/>
                </a:path>
              </a:pathLst>
            </a:custGeom>
            <a:solidFill>
              <a:srgbClr val="cc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未知"/>
            <p:cNvSpPr/>
            <p:nvPr/>
          </p:nvSpPr>
          <p:spPr>
            <a:xfrm>
              <a:off x="4572000" y="2971800"/>
              <a:ext cx="1461960" cy="1038240"/>
            </a:xfrm>
            <a:custGeom>
              <a:avLst/>
              <a:gdLst/>
              <a:ahLst/>
              <a:rect l="l" t="t" r="r" b="b"/>
              <a:pathLst>
                <a:path w="5523" h="3922">
                  <a:moveTo>
                    <a:pt x="0" y="3149"/>
                  </a:moveTo>
                  <a:lnTo>
                    <a:pt x="551" y="3812"/>
                  </a:lnTo>
                  <a:lnTo>
                    <a:pt x="1063" y="3446"/>
                  </a:lnTo>
                  <a:lnTo>
                    <a:pt x="1941" y="3922"/>
                  </a:lnTo>
                  <a:lnTo>
                    <a:pt x="2344" y="3520"/>
                  </a:lnTo>
                  <a:lnTo>
                    <a:pt x="2893" y="3885"/>
                  </a:lnTo>
                  <a:lnTo>
                    <a:pt x="3479" y="3446"/>
                  </a:lnTo>
                  <a:lnTo>
                    <a:pt x="4028" y="3812"/>
                  </a:lnTo>
                  <a:lnTo>
                    <a:pt x="4467" y="3373"/>
                  </a:lnTo>
                  <a:lnTo>
                    <a:pt x="4742" y="3629"/>
                  </a:lnTo>
                  <a:lnTo>
                    <a:pt x="5523" y="3148"/>
                  </a:lnTo>
                  <a:lnTo>
                    <a:pt x="1755" y="0"/>
                  </a:lnTo>
                  <a:lnTo>
                    <a:pt x="0" y="3149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未知"/>
            <p:cNvSpPr/>
            <p:nvPr/>
          </p:nvSpPr>
          <p:spPr>
            <a:xfrm>
              <a:off x="5257800" y="3809880"/>
              <a:ext cx="1800360" cy="833400"/>
            </a:xfrm>
            <a:custGeom>
              <a:avLst/>
              <a:gdLst/>
              <a:ahLst/>
              <a:rect l="l" t="t" r="r" b="b"/>
              <a:pathLst>
                <a:path w="6802" h="3149">
                  <a:moveTo>
                    <a:pt x="2252" y="481"/>
                  </a:moveTo>
                  <a:lnTo>
                    <a:pt x="1977" y="225"/>
                  </a:lnTo>
                  <a:lnTo>
                    <a:pt x="1538" y="664"/>
                  </a:lnTo>
                  <a:lnTo>
                    <a:pt x="989" y="298"/>
                  </a:lnTo>
                  <a:lnTo>
                    <a:pt x="403" y="737"/>
                  </a:lnTo>
                  <a:lnTo>
                    <a:pt x="0" y="1580"/>
                  </a:lnTo>
                  <a:lnTo>
                    <a:pt x="476" y="1983"/>
                  </a:lnTo>
                  <a:lnTo>
                    <a:pt x="74" y="2458"/>
                  </a:lnTo>
                  <a:lnTo>
                    <a:pt x="294" y="3149"/>
                  </a:lnTo>
                  <a:lnTo>
                    <a:pt x="6802" y="3149"/>
                  </a:lnTo>
                  <a:lnTo>
                    <a:pt x="3033" y="0"/>
                  </a:lnTo>
                  <a:lnTo>
                    <a:pt x="2252" y="481"/>
                  </a:lnTo>
                  <a:close/>
                </a:path>
              </a:pathLst>
            </a:custGeom>
            <a:solidFill>
              <a:srgbClr val="ff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" name=""/>
            <p:cNvGrpSpPr/>
            <p:nvPr/>
          </p:nvGrpSpPr>
          <p:grpSpPr>
            <a:xfrm>
              <a:off x="4114800" y="2971800"/>
              <a:ext cx="2924280" cy="1666800"/>
              <a:chOff x="4114800" y="2971800"/>
              <a:chExt cx="2924280" cy="1666800"/>
            </a:xfrm>
          </p:grpSpPr>
          <p:sp>
            <p:nvSpPr>
              <p:cNvPr id="77" name="未知"/>
              <p:cNvSpPr/>
              <p:nvPr/>
            </p:nvSpPr>
            <p:spPr>
              <a:xfrm>
                <a:off x="4114800" y="3805200"/>
                <a:ext cx="1201680" cy="833400"/>
              </a:xfrm>
              <a:custGeom>
                <a:avLst/>
                <a:gdLst/>
                <a:ahLst/>
                <a:rect l="l" t="t" r="r" b="b"/>
                <a:pathLst>
                  <a:path w="4542" h="3148">
                    <a:moveTo>
                      <a:pt x="4542" y="3148"/>
                    </a:moveTo>
                    <a:lnTo>
                      <a:pt x="0" y="3148"/>
                    </a:lnTo>
                    <a:lnTo>
                      <a:pt x="1758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未知"/>
              <p:cNvSpPr/>
              <p:nvPr/>
            </p:nvSpPr>
            <p:spPr>
              <a:xfrm>
                <a:off x="5345280" y="3805200"/>
                <a:ext cx="696600" cy="195480"/>
              </a:xfrm>
              <a:custGeom>
                <a:avLst/>
                <a:gdLst/>
                <a:ahLst/>
                <a:rect l="l" t="t" r="r" b="b"/>
                <a:pathLst>
                  <a:path w="2630" h="737">
                    <a:moveTo>
                      <a:pt x="0" y="737"/>
                    </a:moveTo>
                    <a:lnTo>
                      <a:pt x="586" y="298"/>
                    </a:lnTo>
                    <a:lnTo>
                      <a:pt x="1135" y="664"/>
                    </a:lnTo>
                    <a:lnTo>
                      <a:pt x="1574" y="225"/>
                    </a:lnTo>
                    <a:lnTo>
                      <a:pt x="1849" y="481"/>
                    </a:lnTo>
                    <a:lnTo>
                      <a:pt x="2630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未知"/>
              <p:cNvSpPr/>
              <p:nvPr/>
            </p:nvSpPr>
            <p:spPr>
              <a:xfrm>
                <a:off x="5238720" y="4000680"/>
                <a:ext cx="127080" cy="637920"/>
              </a:xfrm>
              <a:custGeom>
                <a:avLst/>
                <a:gdLst/>
                <a:ahLst/>
                <a:rect l="l" t="t" r="r" b="b"/>
                <a:pathLst>
                  <a:path w="476" h="2412">
                    <a:moveTo>
                      <a:pt x="403" y="0"/>
                    </a:moveTo>
                    <a:lnTo>
                      <a:pt x="0" y="843"/>
                    </a:lnTo>
                    <a:lnTo>
                      <a:pt x="476" y="1246"/>
                    </a:lnTo>
                    <a:lnTo>
                      <a:pt x="74" y="1721"/>
                    </a:lnTo>
                    <a:lnTo>
                      <a:pt x="294" y="2412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未知"/>
              <p:cNvSpPr/>
              <p:nvPr/>
            </p:nvSpPr>
            <p:spPr>
              <a:xfrm>
                <a:off x="4579920" y="2971800"/>
                <a:ext cx="1461960" cy="833400"/>
              </a:xfrm>
              <a:custGeom>
                <a:avLst/>
                <a:gdLst/>
                <a:ahLst/>
                <a:rect l="l" t="t" r="r" b="b"/>
                <a:pathLst>
                  <a:path w="5523" h="3149">
                    <a:moveTo>
                      <a:pt x="5523" y="3148"/>
                    </a:moveTo>
                    <a:lnTo>
                      <a:pt x="1755" y="0"/>
                    </a:lnTo>
                    <a:lnTo>
                      <a:pt x="0" y="3149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未知"/>
              <p:cNvSpPr/>
              <p:nvPr/>
            </p:nvSpPr>
            <p:spPr>
              <a:xfrm>
                <a:off x="5316480" y="3805200"/>
                <a:ext cx="1722600" cy="833400"/>
              </a:xfrm>
              <a:custGeom>
                <a:avLst/>
                <a:gdLst/>
                <a:ahLst/>
                <a:rect l="l" t="t" r="r" b="b"/>
                <a:pathLst>
                  <a:path w="6508" h="3149">
                    <a:moveTo>
                      <a:pt x="0" y="3149"/>
                    </a:moveTo>
                    <a:lnTo>
                      <a:pt x="6508" y="3149"/>
                    </a:lnTo>
                    <a:lnTo>
                      <a:pt x="2739" y="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未知"/>
              <p:cNvSpPr/>
              <p:nvPr/>
            </p:nvSpPr>
            <p:spPr>
              <a:xfrm>
                <a:off x="4579920" y="3805200"/>
                <a:ext cx="765360" cy="204840"/>
              </a:xfrm>
              <a:custGeom>
                <a:avLst/>
                <a:gdLst/>
                <a:ahLst/>
                <a:rect l="l" t="t" r="r" b="b"/>
                <a:pathLst>
                  <a:path w="2893" h="773">
                    <a:moveTo>
                      <a:pt x="0" y="0"/>
                    </a:moveTo>
                    <a:lnTo>
                      <a:pt x="551" y="663"/>
                    </a:lnTo>
                    <a:lnTo>
                      <a:pt x="1063" y="297"/>
                    </a:lnTo>
                    <a:lnTo>
                      <a:pt x="1941" y="773"/>
                    </a:lnTo>
                    <a:lnTo>
                      <a:pt x="2344" y="371"/>
                    </a:lnTo>
                    <a:lnTo>
                      <a:pt x="2893" y="736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3" name="未知"/>
          <p:cNvSpPr/>
          <p:nvPr/>
        </p:nvSpPr>
        <p:spPr>
          <a:xfrm rot="10806000">
            <a:off x="6055560" y="3595680"/>
            <a:ext cx="1461960" cy="1038240"/>
          </a:xfrm>
          <a:custGeom>
            <a:avLst/>
            <a:gdLst/>
            <a:ahLst/>
            <a:rect l="l" t="t" r="r" b="b"/>
            <a:pathLst>
              <a:path w="5523" h="3922">
                <a:moveTo>
                  <a:pt x="0" y="3149"/>
                </a:moveTo>
                <a:lnTo>
                  <a:pt x="551" y="3812"/>
                </a:lnTo>
                <a:lnTo>
                  <a:pt x="1063" y="3446"/>
                </a:lnTo>
                <a:lnTo>
                  <a:pt x="1941" y="3922"/>
                </a:lnTo>
                <a:lnTo>
                  <a:pt x="2344" y="3520"/>
                </a:lnTo>
                <a:lnTo>
                  <a:pt x="2893" y="3885"/>
                </a:lnTo>
                <a:lnTo>
                  <a:pt x="3479" y="3446"/>
                </a:lnTo>
                <a:lnTo>
                  <a:pt x="4028" y="3812"/>
                </a:lnTo>
                <a:lnTo>
                  <a:pt x="4467" y="3373"/>
                </a:lnTo>
                <a:lnTo>
                  <a:pt x="4742" y="3629"/>
                </a:lnTo>
                <a:lnTo>
                  <a:pt x="5523" y="3148"/>
                </a:lnTo>
                <a:lnTo>
                  <a:pt x="1755" y="0"/>
                </a:lnTo>
                <a:lnTo>
                  <a:pt x="0" y="3149"/>
                </a:ln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未知"/>
          <p:cNvSpPr/>
          <p:nvPr/>
        </p:nvSpPr>
        <p:spPr>
          <a:xfrm rot="21531600">
            <a:off x="7059240" y="3795480"/>
            <a:ext cx="1251000" cy="833400"/>
          </a:xfrm>
          <a:custGeom>
            <a:avLst/>
            <a:gdLst/>
            <a:ahLst/>
            <a:rect l="l" t="t" r="r" b="b"/>
            <a:pathLst>
              <a:path w="4724" h="3148">
                <a:moveTo>
                  <a:pt x="2309" y="663"/>
                </a:moveTo>
                <a:lnTo>
                  <a:pt x="1758" y="0"/>
                </a:lnTo>
                <a:lnTo>
                  <a:pt x="0" y="3148"/>
                </a:lnTo>
                <a:lnTo>
                  <a:pt x="4542" y="3148"/>
                </a:lnTo>
                <a:lnTo>
                  <a:pt x="4322" y="2457"/>
                </a:lnTo>
                <a:lnTo>
                  <a:pt x="4724" y="1982"/>
                </a:lnTo>
                <a:lnTo>
                  <a:pt x="4248" y="1579"/>
                </a:lnTo>
                <a:lnTo>
                  <a:pt x="4651" y="736"/>
                </a:lnTo>
                <a:lnTo>
                  <a:pt x="4102" y="371"/>
                </a:lnTo>
                <a:lnTo>
                  <a:pt x="3699" y="773"/>
                </a:lnTo>
                <a:lnTo>
                  <a:pt x="2821" y="297"/>
                </a:lnTo>
                <a:lnTo>
                  <a:pt x="2309" y="663"/>
                </a:lnTo>
                <a:close/>
              </a:path>
            </a:pathLst>
          </a:custGeom>
          <a:solidFill>
            <a:srgbClr val="ccff6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038480" y="5105520"/>
            <a:ext cx="51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ff"/>
                </a:solidFill>
                <a:latin typeface="Arial"/>
                <a:ea typeface="方正舒体"/>
              </a:rPr>
              <a:t>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从刚才拼角的过程你能想出证明的办法吗</a:t>
            </a: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1230.org 初中数学资源网 </a:t>
            </a:r>
          </a:p>
        </p:txBody>
      </p:sp>
    </p:spTree>
  </p:cSld>
  <p:transition>
    <p:checker dir="horz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80880" y="1447920"/>
            <a:ext cx="701064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证法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1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延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D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在△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外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一边</a:t>
            </a:r>
            <a:r>
              <a:rPr b="0" lang="zh-CN" sz="3600" spc="-1" strike="noStrike">
                <a:solidFill>
                  <a:srgbClr val="000000"/>
                </a:solidFill>
                <a:latin typeface="宋体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E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为另一边作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=∠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于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CE∥B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内错角相等，两直线平行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∴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=∠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0000cc"/>
                </a:solidFill>
                <a:latin typeface="宋体"/>
              </a:rPr>
              <a:t>两直线平行，同位角相等</a:t>
            </a:r>
            <a:r>
              <a:rPr b="1" lang="en-US" sz="2800" spc="-1" strike="noStrike">
                <a:solidFill>
                  <a:srgbClr val="0000cc"/>
                </a:solidFill>
                <a:latin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又∵∠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+∠2+∠ACB=180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∴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A+∠B+∠ACB=18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876920" y="3886200"/>
            <a:ext cx="3657240" cy="2277000"/>
            <a:chOff x="4876920" y="3886200"/>
            <a:chExt cx="3657240" cy="2277000"/>
          </a:xfrm>
        </p:grpSpPr>
        <p:sp>
          <p:nvSpPr>
            <p:cNvPr id="88" name=""/>
            <p:cNvSpPr/>
            <p:nvPr/>
          </p:nvSpPr>
          <p:spPr>
            <a:xfrm>
              <a:off x="7513200" y="5189040"/>
              <a:ext cx="3204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058520" y="5003640"/>
              <a:ext cx="32040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"/>
            <p:cNvGrpSpPr/>
            <p:nvPr/>
          </p:nvGrpSpPr>
          <p:grpSpPr>
            <a:xfrm>
              <a:off x="4876920" y="3886200"/>
              <a:ext cx="3657240" cy="2277000"/>
              <a:chOff x="4876920" y="3886200"/>
              <a:chExt cx="3657240" cy="2277000"/>
            </a:xfrm>
          </p:grpSpPr>
          <p:sp>
            <p:nvSpPr>
              <p:cNvPr id="91" name=""/>
              <p:cNvSpPr/>
              <p:nvPr/>
            </p:nvSpPr>
            <p:spPr>
              <a:xfrm>
                <a:off x="7231320" y="5490360"/>
                <a:ext cx="179280" cy="1749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318" y="577"/>
                    </a:moveTo>
                    <a:arcTo wR="10800" hR="10800" stAng="-6528663" swAng="76043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318" y="577"/>
                    </a:moveTo>
                    <a:arcTo wR="10800" hR="10800" stAng="-6528663" swAng="7604397"/>
                  </a:path>
                </a:pathLst>
              </a:custGeom>
              <a:noFill/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112880" y="5398200"/>
                <a:ext cx="208440" cy="2163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10" y="6240"/>
                    </a:moveTo>
                    <a:arcTo wR="10800" hR="10800" stAng="-9301566" swAng="71165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10" y="6240"/>
                    </a:moveTo>
                    <a:arcTo wR="10800" hR="10800" stAng="-9301566" swAng="7116583"/>
                  </a:path>
                </a:pathLst>
              </a:custGeom>
              <a:noFill/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>
                <a:off x="4973040" y="4286160"/>
                <a:ext cx="717840" cy="131904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973040" y="5605200"/>
                <a:ext cx="2259000" cy="144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5711040" y="4280400"/>
                <a:ext cx="1541160" cy="131940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32400" y="5605200"/>
                <a:ext cx="994320" cy="1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7232040" y="4477680"/>
                <a:ext cx="612360" cy="112716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828560" y="4214880"/>
                <a:ext cx="43272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23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3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091720" y="5628600"/>
                <a:ext cx="44244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20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058520" y="5660280"/>
                <a:ext cx="51300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20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876920" y="5595480"/>
                <a:ext cx="53856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81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5582520" y="3886200"/>
                <a:ext cx="52128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81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3" name=""/>
          <p:cNvSpPr/>
          <p:nvPr/>
        </p:nvSpPr>
        <p:spPr>
          <a:xfrm>
            <a:off x="685800" y="457200"/>
            <a:ext cx="693432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三角形的内角和等于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180</a:t>
            </a:r>
            <a:r>
              <a:rPr b="1" lang="en-US" sz="4400" spc="-1" strike="noStrike" baseline="30000">
                <a:solidFill>
                  <a:srgbClr val="ff3300"/>
                </a:solidFill>
                <a:latin typeface="Times New Roman"/>
                <a:ea typeface="仿宋_GB2312"/>
              </a:rPr>
              <a:t>0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1230.org 初中数学资源网 </a:t>
            </a:r>
          </a:p>
        </p:txBody>
      </p:sp>
    </p:spTree>
  </p:cSld>
  <p:transition>
    <p:push dir="u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1752480"/>
            <a:ext cx="647712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证法</a:t>
            </a:r>
            <a:r>
              <a:rPr b="1" lang="en-US" sz="36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华文中宋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延长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过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CE∥BA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∴ 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=∠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两直线平行，内错角相等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B=∠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cc"/>
                </a:solidFill>
                <a:latin typeface="宋体"/>
              </a:rPr>
              <a:t>两直线平行，同位角相等</a:t>
            </a:r>
            <a:r>
              <a:rPr b="1" lang="en-US" sz="3200" spc="-1" strike="noStrike">
                <a:solidFill>
                  <a:srgbClr val="0000cc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又∵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+∠2+∠ACB=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∴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A+∠B+∠ACB=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4800600" y="3809880"/>
            <a:ext cx="4343400" cy="2560320"/>
            <a:chOff x="4800600" y="3809880"/>
            <a:chExt cx="4343400" cy="2560320"/>
          </a:xfrm>
        </p:grpSpPr>
        <p:sp>
          <p:nvSpPr>
            <p:cNvPr id="106" name=""/>
            <p:cNvSpPr/>
            <p:nvPr/>
          </p:nvSpPr>
          <p:spPr>
            <a:xfrm>
              <a:off x="7931160" y="5319720"/>
              <a:ext cx="38088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391520" y="5105160"/>
              <a:ext cx="38088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4800600" y="3809880"/>
              <a:ext cx="4343400" cy="2560320"/>
              <a:chOff x="4800600" y="3809880"/>
              <a:chExt cx="4343400" cy="2560320"/>
            </a:xfrm>
          </p:grpSpPr>
          <p:sp>
            <p:nvSpPr>
              <p:cNvPr id="109" name=""/>
              <p:cNvSpPr/>
              <p:nvPr/>
            </p:nvSpPr>
            <p:spPr>
              <a:xfrm>
                <a:off x="7596720" y="5668920"/>
                <a:ext cx="213480" cy="20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318" y="577"/>
                    </a:moveTo>
                    <a:arcTo wR="10800" hR="10800" stAng="-6528663" swAng="760439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318" y="577"/>
                    </a:moveTo>
                    <a:arcTo wR="10800" hR="10800" stAng="-6528663" swAng="7604397"/>
                  </a:path>
                </a:pathLst>
              </a:custGeom>
              <a:noFill/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7455960" y="5562360"/>
                <a:ext cx="248040" cy="2509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10" y="6240"/>
                    </a:moveTo>
                    <a:arcTo wR="10800" hR="10800" stAng="-9301566" swAng="711658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10" y="6240"/>
                    </a:moveTo>
                    <a:arcTo wR="10800" hR="10800" stAng="-9301566" swAng="7116583"/>
                  </a:path>
                </a:pathLst>
              </a:custGeom>
              <a:noFill/>
              <a:ln w="57240">
                <a:solidFill>
                  <a:srgbClr val="008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4915080" y="4273560"/>
                <a:ext cx="852480" cy="152856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915080" y="5802120"/>
                <a:ext cx="2682720" cy="180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791320" y="4267080"/>
                <a:ext cx="1830240" cy="152892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597800" y="5802120"/>
                <a:ext cx="118116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7597800" y="4495680"/>
                <a:ext cx="727200" cy="130644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305920" y="4190760"/>
                <a:ext cx="51408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23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3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618400" y="5829120"/>
                <a:ext cx="52560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20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300" spc="-1" strike="noStrike">
                    <a:solidFill>
                      <a:srgbClr val="000000"/>
                    </a:solidFill>
                    <a:latin typeface="Arial"/>
                  </a:rPr>
                  <a:t>D</a:t>
                </a: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7391520" y="5867280"/>
                <a:ext cx="609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20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800600" y="5790960"/>
                <a:ext cx="63828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81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638680" y="3809880"/>
                <a:ext cx="61920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81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"/>
          <p:cNvSpPr/>
          <p:nvPr/>
        </p:nvSpPr>
        <p:spPr>
          <a:xfrm>
            <a:off x="685800" y="457200"/>
            <a:ext cx="693432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三角形的内角和等于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180</a:t>
            </a:r>
            <a:r>
              <a:rPr b="1" lang="en-US" sz="4400" spc="-1" strike="noStrike" baseline="30000">
                <a:solidFill>
                  <a:srgbClr val="ff3300"/>
                </a:solidFill>
                <a:latin typeface="Times New Roman"/>
                <a:ea typeface="仿宋_GB2312"/>
              </a:rPr>
              <a:t>0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1230.org 初中数学资源网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304920" y="2209680"/>
            <a:ext cx="5715000" cy="356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证法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3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F∥B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∴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=∠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方正舒体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两直线平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内错角相等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=∠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方正舒体"/>
              </a:rPr>
              <a:t>(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两直线平行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,</a:t>
            </a: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内错角相等</a:t>
            </a:r>
            <a:r>
              <a:rPr b="1" lang="en-US" sz="3200" spc="-1" strike="noStrike">
                <a:solidFill>
                  <a:srgbClr val="0000ff"/>
                </a:solidFill>
                <a:latin typeface="宋体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又∵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+∠1+∠BAC=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+∠C+∠BAC=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5105520" y="3200400"/>
            <a:ext cx="4038480" cy="2560320"/>
            <a:chOff x="5105520" y="3200400"/>
            <a:chExt cx="4038480" cy="2560320"/>
          </a:xfrm>
        </p:grpSpPr>
        <p:sp>
          <p:nvSpPr>
            <p:cNvPr id="124" name=""/>
            <p:cNvSpPr/>
            <p:nvPr/>
          </p:nvSpPr>
          <p:spPr>
            <a:xfrm rot="3738000">
              <a:off x="6845400" y="3541680"/>
              <a:ext cx="707040" cy="2494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338" y="13"/>
                  </a:moveTo>
                  <a:arcTo wR="10800" hR="10800" stAng="-5228565" swAng="6304298"/>
                  <a:lnTo>
                    <a:pt x="10800" y="10800"/>
                  </a:lnTo>
                  <a:close/>
                </a:path>
                <a:path fill="none" w="21600" h="21600">
                  <a:moveTo>
                    <a:pt x="11338" y="13"/>
                  </a:moveTo>
                  <a:arcTo wR="10800" hR="10800" stAng="-5228565" swAng="6304298"/>
                </a:path>
              </a:pathLst>
            </a:cu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rot="9673800">
              <a:off x="6449040" y="3446640"/>
              <a:ext cx="739080" cy="5565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4124" y="524"/>
                  </a:moveTo>
                  <a:arcTo wR="10800" hR="10800" stAng="-4324325" swAng="6337725"/>
                  <a:lnTo>
                    <a:pt x="10800" y="10800"/>
                  </a:lnTo>
                  <a:close/>
                </a:path>
                <a:path fill="none" w="21600" h="21600">
                  <a:moveTo>
                    <a:pt x="14124" y="524"/>
                  </a:moveTo>
                  <a:arcTo wR="10800" hR="10800" stAng="-4324325" swAng="6337725"/>
                </a:path>
              </a:pathLst>
            </a:custGeom>
            <a:noFill/>
            <a:ln w="5724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5105520" y="3200400"/>
              <a:ext cx="4038480" cy="2560320"/>
              <a:chOff x="5105520" y="3200400"/>
              <a:chExt cx="4038480" cy="2560320"/>
            </a:xfrm>
          </p:grpSpPr>
          <p:sp>
            <p:nvSpPr>
              <p:cNvPr id="127" name=""/>
              <p:cNvSpPr/>
              <p:nvPr/>
            </p:nvSpPr>
            <p:spPr>
              <a:xfrm>
                <a:off x="8307720" y="3322800"/>
                <a:ext cx="459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</a:rPr>
                  <a:t>F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172200" y="3703680"/>
                <a:ext cx="381240" cy="487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467840" y="3703680"/>
                <a:ext cx="380880" cy="426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>
                <a:off x="6058080" y="3664080"/>
                <a:ext cx="852480" cy="152856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058080" y="5192640"/>
                <a:ext cx="2682720" cy="180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6934320" y="3657600"/>
                <a:ext cx="1830240" cy="1528920"/>
              </a:xfrm>
              <a:prstGeom prst="line">
                <a:avLst/>
              </a:prstGeom>
              <a:ln w="572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5562720" y="3627360"/>
                <a:ext cx="2857680" cy="1800"/>
              </a:xfrm>
              <a:prstGeom prst="line">
                <a:avLst/>
              </a:prstGeom>
              <a:ln w="57240">
                <a:solidFill>
                  <a:srgbClr val="ff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5105520" y="3246480"/>
                <a:ext cx="514440" cy="564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2313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700" spc="-1" strike="noStrike">
                    <a:solidFill>
                      <a:srgbClr val="000000"/>
                    </a:solidFill>
                    <a:latin typeface="Arial"/>
                  </a:rPr>
                  <a:t>E</a:t>
                </a:r>
                <a:endParaRPr b="0" lang="en-US" sz="3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534520" y="5257800"/>
                <a:ext cx="609480" cy="502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206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300" spc="-1" strike="noStrike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3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5943600" y="5181480"/>
                <a:ext cx="63828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81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6782040" y="3200400"/>
                <a:ext cx="61884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81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Arial"/>
                  </a:rPr>
                  <a:t>A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" name=""/>
          <p:cNvSpPr/>
          <p:nvPr/>
        </p:nvSpPr>
        <p:spPr>
          <a:xfrm>
            <a:off x="609480" y="762120"/>
            <a:ext cx="693432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三角形的内角和等于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180</a:t>
            </a:r>
            <a:r>
              <a:rPr b="1" lang="en-US" sz="4400" spc="-1" strike="noStrike" baseline="30000">
                <a:solidFill>
                  <a:srgbClr val="ff3300"/>
                </a:solidFill>
                <a:latin typeface="Times New Roman"/>
                <a:ea typeface="仿宋_GB2312"/>
              </a:rPr>
              <a:t>0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1230.org 初中数学资源网 </a:t>
            </a:r>
          </a:p>
        </p:txBody>
      </p:sp>
    </p:spTree>
  </p:cSld>
  <p:transition>
    <p:wheel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09680" y="1295280"/>
            <a:ext cx="65534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证法</a:t>
            </a:r>
            <a:r>
              <a:rPr b="1" lang="en-US" sz="3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4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华文中宋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过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作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AE∥B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∴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=∠B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仿宋_GB2312"/>
              </a:rPr>
              <a:t>(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仿宋_GB2312"/>
              </a:rPr>
              <a:t>两直线平行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仿宋_GB2312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仿宋_GB2312"/>
              </a:rPr>
              <a:t>内错角相等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仿宋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EAB+∠BAC+∠C=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仿宋_GB2312"/>
              </a:rPr>
              <a:t>(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仿宋_GB2312"/>
              </a:rPr>
              <a:t>两直线平行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仿宋_GB2312"/>
              </a:rPr>
              <a:t>,</a:t>
            </a:r>
            <a:r>
              <a:rPr b="1" lang="zh-CN" sz="3200" spc="-1" strike="noStrike">
                <a:solidFill>
                  <a:srgbClr val="0000cc"/>
                </a:solidFill>
                <a:latin typeface="Arial"/>
                <a:ea typeface="仿宋_GB2312"/>
              </a:rPr>
              <a:t>同旁内角互补</a:t>
            </a:r>
            <a:r>
              <a:rPr b="1" lang="en-US" sz="3200" spc="-1" strike="noStrike">
                <a:solidFill>
                  <a:srgbClr val="0000cc"/>
                </a:solidFill>
                <a:latin typeface="Arial"/>
                <a:ea typeface="仿宋_GB2312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仿宋_GB2312"/>
              </a:rPr>
              <a:t>∴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∠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B+∠C+∠BAC=180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380880" y="4297320"/>
            <a:ext cx="4038480" cy="2560320"/>
            <a:chOff x="380880" y="4297320"/>
            <a:chExt cx="4038480" cy="2560320"/>
          </a:xfrm>
        </p:grpSpPr>
        <p:sp>
          <p:nvSpPr>
            <p:cNvPr id="141" name=""/>
            <p:cNvSpPr/>
            <p:nvPr/>
          </p:nvSpPr>
          <p:spPr>
            <a:xfrm>
              <a:off x="3809880" y="6354720"/>
              <a:ext cx="609480" cy="50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206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300" spc="-1" strike="noStrike">
                  <a:solidFill>
                    <a:srgbClr val="000000"/>
                  </a:solidFill>
                  <a:latin typeface="Arial"/>
                </a:rPr>
                <a:t>C</a:t>
              </a:r>
              <a:endParaRPr b="0" lang="en-US" sz="3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" name=""/>
            <p:cNvGrpSpPr/>
            <p:nvPr/>
          </p:nvGrpSpPr>
          <p:grpSpPr>
            <a:xfrm>
              <a:off x="380880" y="4297320"/>
              <a:ext cx="3659040" cy="2347200"/>
              <a:chOff x="380880" y="4297320"/>
              <a:chExt cx="3659040" cy="2347200"/>
            </a:xfrm>
          </p:grpSpPr>
          <p:sp>
            <p:nvSpPr>
              <p:cNvPr id="143" name=""/>
              <p:cNvSpPr/>
              <p:nvPr/>
            </p:nvSpPr>
            <p:spPr>
              <a:xfrm>
                <a:off x="1066680" y="6202440"/>
                <a:ext cx="638280" cy="442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spcBef>
                    <a:spcPts val="181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900" spc="-1" strike="noStrike">
                    <a:solidFill>
                      <a:srgbClr val="000000"/>
                    </a:solidFill>
                    <a:latin typeface="Arial"/>
                  </a:rPr>
                  <a:t>B</a:t>
                </a:r>
                <a:endParaRPr b="0" lang="en-US" sz="2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380880" y="4297320"/>
                <a:ext cx="3659040" cy="1994040"/>
                <a:chOff x="380880" y="4297320"/>
                <a:chExt cx="3659040" cy="1994040"/>
              </a:xfrm>
            </p:grpSpPr>
            <p:sp>
              <p:nvSpPr>
                <p:cNvPr id="145" name=""/>
                <p:cNvSpPr/>
                <p:nvPr/>
              </p:nvSpPr>
              <p:spPr>
                <a:xfrm rot="9673800">
                  <a:off x="1724400" y="4543560"/>
                  <a:ext cx="739080" cy="5565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4124" y="524"/>
                      </a:moveTo>
                      <a:arcTo wR="10800" hR="10800" stAng="-4324325" swAng="6337725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4124" y="524"/>
                      </a:moveTo>
                      <a:arcTo wR="10800" hR="10800" stAng="-4324325" swAng="6337725"/>
                    </a:path>
                  </a:pathLst>
                </a:custGeom>
                <a:noFill/>
                <a:ln w="57240">
                  <a:solidFill>
                    <a:srgbClr val="008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flipH="1">
                  <a:off x="1333440" y="4761000"/>
                  <a:ext cx="852480" cy="1528560"/>
                </a:xfrm>
                <a:prstGeom prst="line">
                  <a:avLst/>
                </a:prstGeom>
                <a:ln w="5724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333440" y="6289560"/>
                  <a:ext cx="2682720" cy="1800"/>
                </a:xfrm>
                <a:prstGeom prst="line">
                  <a:avLst/>
                </a:prstGeom>
                <a:ln w="5724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2209680" y="4754520"/>
                  <a:ext cx="1830240" cy="1528920"/>
                </a:xfrm>
                <a:prstGeom prst="line">
                  <a:avLst/>
                </a:prstGeom>
                <a:ln w="5724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38080" y="4754520"/>
                  <a:ext cx="1371600" cy="0"/>
                </a:xfrm>
                <a:prstGeom prst="line">
                  <a:avLst/>
                </a:prstGeom>
                <a:ln w="57240">
                  <a:solidFill>
                    <a:srgbClr val="ff0000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80880" y="4343400"/>
                  <a:ext cx="514440" cy="56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spcBef>
                      <a:spcPts val="2313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700" spc="-1" strike="noStrike">
                      <a:solidFill>
                        <a:srgbClr val="000000"/>
                      </a:solidFill>
                      <a:latin typeface="Arial"/>
                    </a:rPr>
                    <a:t>E</a:t>
                  </a:r>
                  <a:endParaRPr b="0" lang="en-US" sz="37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2057400" y="4297320"/>
                  <a:ext cx="618840" cy="442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spAutoFit/>
                </a:bodyPr>
                <a:p>
                  <a:pPr>
                    <a:spcBef>
                      <a:spcPts val="181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900" spc="-1" strike="noStrike">
                      <a:solidFill>
                        <a:srgbClr val="000000"/>
                      </a:solidFill>
                      <a:latin typeface="Arial"/>
                    </a:rPr>
                    <a:t>A</a:t>
                  </a:r>
                  <a:endParaRPr b="0" lang="en-US" sz="29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2" name=""/>
          <p:cNvSpPr/>
          <p:nvPr/>
        </p:nvSpPr>
        <p:spPr>
          <a:xfrm>
            <a:off x="685800" y="228600"/>
            <a:ext cx="6934320" cy="7642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三角形的内角和等于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180</a:t>
            </a:r>
            <a:r>
              <a:rPr b="1" lang="en-US" sz="4400" spc="-1" strike="noStrike" baseline="30000">
                <a:solidFill>
                  <a:srgbClr val="ff3300"/>
                </a:solidFill>
                <a:latin typeface="Times New Roman"/>
                <a:ea typeface="仿宋_GB2312"/>
              </a:rPr>
              <a:t>0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1230.org 初中数学资源网 </a:t>
            </a:r>
          </a:p>
        </p:txBody>
      </p:sp>
    </p:spTree>
  </p:cSld>
  <p:transition>
    <p:comb dir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" y="53352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在这里，为了证明的需要，在原来的图形上添画的线叫做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辅助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在平面几何里，辅助线通常画成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仿宋_GB2312"/>
              </a:rPr>
              <a:t>虚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2666880"/>
            <a:ext cx="2590560" cy="703440"/>
          </a:xfrm>
          <a:prstGeom prst="rect">
            <a:avLst/>
          </a:prstGeom>
          <a:solidFill>
            <a:srgbClr val="cc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3300"/>
                </a:solidFill>
                <a:latin typeface="Times New Roman"/>
                <a:ea typeface="方正舒体"/>
              </a:rPr>
              <a:t>思路总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380988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仿宋_GB2312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为了证明三个角的和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180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  <a:ea typeface="仿宋_GB2312"/>
              </a:rPr>
              <a:t>0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转化为一个平角或同旁内角互补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这种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仿宋_GB2312"/>
              </a:rPr>
              <a:t>转化思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是数学中的常用方法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仿宋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1230.org 初中数学资源网 </a:t>
            </a:r>
          </a:p>
        </p:txBody>
      </p:sp>
    </p:spTree>
  </p:cSld>
  <p:transition>
    <p:pull dir="u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52480" y="449568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457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609480"/>
            <a:ext cx="58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304920"/>
            <a:ext cx="78487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，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=35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B=43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∠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在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中， 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:∠B:∠C=2:3: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则∠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∠ B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∠ C=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3276720"/>
            <a:ext cx="853452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一个三角形中最多有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直角？为什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一个三角形中最多有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钝角？为什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一个三角形中至少有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锐角？为什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任意 一个三角形中，最大的一个角的度数至少为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200400" y="8380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02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391520" y="21337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8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2209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352680" y="220968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40 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5638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724280" y="45720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724280" y="38862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724280" y="3200400"/>
            <a:ext cx="106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 rot="5400000">
            <a:off x="-328680" y="861840"/>
            <a:ext cx="187632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00cc"/>
                  </a:solidFill>
                  <a:miter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楷体_GB2312"/>
              </a:rPr>
              <a:t>新知应用</a:t>
            </a:r>
            <a:endParaRPr b="1" lang="en-US" sz="1800" spc="-1" strike="noStrike">
              <a:ln w="9360">
                <a:solidFill>
                  <a:srgbClr val="0000cc"/>
                </a:solidFill>
                <a:miter/>
              </a:ln>
              <a:solidFill>
                <a:srgbClr val="00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170" name=""/>
          <p:cNvSpPr txBox="1"/>
          <p:nvPr/>
        </p:nvSpPr>
        <p:spPr>
          <a:xfrm rot="5400000">
            <a:off x="-457200" y="3733560"/>
            <a:ext cx="1676160" cy="7621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ff3300"/>
                  </a:solidFill>
                  <a:miter/>
                </a:ln>
                <a:solidFill>
                  <a:srgbClr val="ff3300"/>
                </a:solidFill>
                <a:latin typeface="华文新魏"/>
              </a:rPr>
              <a:t>讨论</a:t>
            </a:r>
            <a:endParaRPr b="1" lang="en-US" sz="1800" spc="-1" strike="noStrike">
              <a:ln w="9360">
                <a:solidFill>
                  <a:srgbClr val="ff3300"/>
                </a:solidFill>
                <a:miter/>
              </a:ln>
              <a:solidFill>
                <a:srgbClr val="ff3300"/>
              </a:solidFill>
              <a:latin typeface="华文新魏"/>
              <a:ea typeface="华文新魏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1230.org 初中数学资源网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9-04T22:33:07Z</dcterms:created>
  <dc:creator>www.1230.org 初中数学资源网 收集整理</dc:creator>
  <dc:description>www.1230.org 初中数学资源网 收集整理</dc:description>
  <dc:language>en-US</dc:language>
  <cp:lastModifiedBy>USER</cp:lastModifiedBy>
  <dcterms:modified xsi:type="dcterms:W3CDTF">2013-09-04T22:33:25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  <property fmtid="{D5CDD505-2E9C-101B-9397-08002B2CF9AE}" pid="3" name="Version">
    <vt:r8>1</vt:r8>
  </property>
</Properties>
</file>